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ECD-C292-43DE-AB28-7B82B72D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2D39-7DA8-4564-BBF3-CB0AF94D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79E-5635-4232-9EA7-3477F8B3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B29-5F76-433E-9D87-1D1966EA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151-AB4B-4DC8-A686-B3377D82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E1C-48AC-452B-837A-B859A656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C0A-D342-4251-884A-12ED1231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D2A-2E27-4EA3-A749-16098376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95B-868A-4BA8-B4FE-DE400946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CE3-2C11-4080-9AA2-C4264A04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B79-7E76-4944-A232-C093D05E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EE5-B001-4768-B3C6-C468A538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FC42-EA1A-4F41-A0C3-C63A037D0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lectric Ca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why we need to keep making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Intro/Backgroun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Electric cars have been available for over a century now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y were originally viewed as feminine, though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s caused gas-powered cars to be produced instead, and now they cause problem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62520" y="3149640"/>
            <a:ext cx="3744720" cy="3379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05280" y="6603840"/>
            <a:ext cx="26067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Photo source: http://www.auuuu.com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Problems to be solved  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Miles per char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Nissan Leaf - 60 miles per char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Expens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Leaf- twice as much as comparable Vers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Gasoline-powered cars could actually be more gre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4600" y="304560"/>
            <a:ext cx="59482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Reasons why electric cars </a:t>
            </a: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are worth the invest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United States is too focused on Middle East oi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Electric cars can relieve oil depende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Over $700 billion has been sent overseas in the past 6 years for oi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Over 95 percent of trips could be made in electric ca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 combustion engine can be added in case the vehicle should require greater rang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fter a certain number of miles travelled, electric cars actually are more green than their gas-powered cousi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71200" y="304560"/>
            <a:ext cx="66740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A Theory: How Electric Cars </a:t>
            </a: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could Boost the Econom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Electric cars allow people to travel without paying near as much for gasoli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If people don't buy as much gasoline, then they have more money in their pocke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more money people have, the more they spend, and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onsumer spending has been proven to boost the econom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